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C9E-6182-42C1-9F7B-8274A2E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30C-3A22-42D1-B824-9DB5DD1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03353-3295-4634-B188-8DF63BEF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43FDD-EE64-4D0E-857C-1E2CF3D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2D56D-3447-48E3-AD41-CFF89B8B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49E4-46BB-420C-9B47-D7C9D22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CF9DE-DD1D-40E0-AB0E-D32ED95A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A1EBE-F766-4D8E-B293-A551102B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AB17D-1E58-4CBF-AE01-3CECBD3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BC86A-F84C-4AAB-884D-A325001B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EC02-3127-49B5-9DD7-0627B1B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BF3-6598-46DA-B620-5626792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837-2D73-4818-843D-5804F0BB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B94E-5760-43CC-9CB0-0BAFFB1E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8A16-8B50-4141-AADE-B0CEEDC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099-465C-431C-824F-B7D02C11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C0D-3708-4C4B-ADB8-E017466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EA6-9D53-440A-BE9A-E5C2F5F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9971-A8DA-4C23-A128-7FED97F6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D1AE-08AC-425C-A2B3-FA0A175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762-4B1C-4140-A453-749EEA1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72AB-40E6-4B7F-902B-E0039C2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2DD8-4ED1-4691-B01D-14FA4A6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138-5756-47FD-AF22-FEDE55BA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461-2DEB-4446-862A-E15E4030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DED9-9207-4F2C-AF4F-E9440DE2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A564-0CCE-45AB-80C4-F7EBABA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07CE-5413-4692-A61F-EA1F7C8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612C-4DF7-44F7-A103-A81CE993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1364-7FB3-4C80-9AEC-6B3E697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A0FF-D5EF-49E4-BDA8-A06B0A11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BE4-3B6D-478A-8FAC-1B2E08D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1229-0818-4A29-B65F-22CE13D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1792-B98B-49FA-A8A1-77AD376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3A89-C0C9-4F21-AC3E-A72E0E8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0AD4-32B5-4A93-BDC2-E89C3D4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2189-CDE7-45A2-8F12-DE10258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06CF-0FAB-4E82-9E15-B2FF02A0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2C23-5DBC-420A-B438-E366A227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4BFC-B79A-4EFA-A8E9-63967AD9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885B-2BEE-45ED-A1DC-C19143A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31F9-7FCE-42C0-A6A5-BCA6A11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931-D71D-4161-8A69-57EE87A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10B3-0FAC-43D6-94D8-FDE78D9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3089-F551-475B-852A-552231DA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220D-93EE-47F9-9B1A-2C8BFB67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A912-5A07-47DB-8D82-0871F12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2645-2218-4F11-A6AA-6BD1AE3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F773-1186-4D66-A2AA-AC72522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503D-7E99-4929-823F-DF32496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7232-360A-4E34-8C14-5B15D271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07E1-FB95-4A5E-AD6C-C018EF72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0D1E-385A-472E-9DA0-B231A24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25D-BB85-4DCF-B771-4FC1129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9917-24FA-4EBF-B966-D516283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151C-EE42-4AE9-94C8-7844B24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24F2-00B1-4441-9699-FB638BCC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FA74-879D-44A3-933D-6F60E2FC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2CF5-9870-43AF-874D-8C6B34F6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CF36-3B48-4CCC-9E7C-B69572D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827A-E8FD-491A-8615-31A4811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93B1-AE15-4EFD-93B3-CB878AE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E0C3-602E-417D-A74C-3D73110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BD95-7CD0-4CA7-92D4-D44A23A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D21-8E77-4001-B132-6207041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624A-CB75-4395-9C5C-F18357ED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D020-2AEA-41F0-BA89-585FF95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E90DF-118C-4599-B08F-D425560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46FD-EFF7-4402-A3AD-04F50DE0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66B1-5B33-4AB1-915F-9446F8F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6495-1C5A-4C31-9B7C-77B9200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D3616-6EB6-44FB-991C-D2589F9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091A-5448-4E9D-A9FC-7314A97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E95F-135E-4EBA-B24C-22A0E48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01AB-1314-4647-84BF-F10DCB80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A15-6014-4776-A119-EA5D4E5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4B4B-8EFB-480D-91EF-383C762F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16D4-721B-4402-94DE-4888C443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25B8A-5A89-4620-9B2E-429C3744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C123-D419-4278-96B8-F81A0FE0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8B68F-971D-4DE0-B4CB-374BFAF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8EF1B-6BC1-4A33-9AA3-C5E17BDB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BE49-D188-442C-92A8-FF7CC3EC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A2B3-EE5B-4F5E-B924-A3D35F0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8D83-D08A-4091-9C58-C62887E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ACCB-0B58-4AFC-AEE4-BBF71ED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ED3-B087-42C3-BDB0-5C3CF4B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5E2C-3090-4189-B138-48252D3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93A6-9A58-4F05-85B6-9391971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7A81-F91C-41D2-9E5B-BB9790AF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EB34-D352-44B3-9DBD-85BA5C07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17AA-33BD-43B4-8302-3DFB0BA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B5C0-2A66-4464-AD31-A8415985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2046C-7670-4AEE-89BD-C68D9BF1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C992-1128-465B-A81E-45E70A5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C3F4C-1A90-470A-9CB7-30A99160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47C43-52FC-4E56-823B-07DE0161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632-2F81-4BC9-964D-E70C4B4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2D67-7B8E-4348-AFB5-49B7B06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17936-A448-4CCA-9F36-F85F07B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861F-2606-451A-BFD9-59D957C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36DA-EAB1-48C3-AB47-5CD04D5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50BD-E8D8-457D-8AF6-3107D74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005F-830A-45FD-9C63-9C190252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5D660-8872-4EA9-A9FF-A77A9F49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A2012-04DA-45BE-943E-D4EFC354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AAFE0-2683-45A6-8F8E-59878D4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56FE3-6702-427E-8965-AFA4E6E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1A43-7767-445A-8DE2-520BAADF1B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FFB-16E0-4E86-A21A-D0E5B0DB21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B93C-E978-41BF-8D22-94846B6163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29F0-706C-4487-A5AC-915E54AFC69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231F-950C-451E-8745-AD2CE909F7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CE8-DF02-4DC9-BF55-C4087454F3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158C-ED6E-421B-BA1D-6100FB17B90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D0CF-7381-4DF8-8BF4-97D857E134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8549-6B67-49ED-B2EE-D98B0F286A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ing your book and your prior knowledge of DNA, of the structure of DNA, what are some of the differences between DNA and R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NA Has ribose, not deoxyribo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t double strand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ses in RNA includ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raci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en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uan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ytosi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aden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cytos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thym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ch base in RNA binds to guanine in DNA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swers on white boa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8:48:51Z</dcterms:modified>
  <cp:revision>5</cp:revision>
  <dc:subject/>
  <dc:title>Slide 1</dc:title>
</cp:coreProperties>
</file>